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E69-4631-4B88-9CC5-62051EB4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584-2D11-4890-ACDF-86A3B1C2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1AA-E520-4381-AF6D-089F7CD7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8F4-8EDA-43FE-A6F3-77A732B4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D1B0-3269-4213-83D8-0958B04B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5FC9-C2FC-4D9D-AE96-135B3C17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BBF5-9F38-4ACB-9760-EDD13905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8C81-8007-494A-8535-51F097AD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D9F6-7A53-4B54-9C3D-92A4B2F3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68C8-0E47-4AB7-8B5E-5E41487D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1D51-BFCF-44E3-8851-9003B607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D34-6375-4C23-BA2E-7F660FA5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216C-481C-46DF-99F3-731EDC85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1646-0062-47BF-ACFB-48198477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B92F-9847-405B-A136-FD2F17E0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2CE9-E4AD-4751-81CA-FEC9B02D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C531-F81E-45D5-859B-F554DA2A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645-D92B-4BE4-AB58-24023762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99BA-430E-4C49-A71F-81EA0581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022-82E7-4442-B1D9-C9E69368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DDD2-9F1B-486C-8D18-89E610C0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BAB-8071-4F6B-B737-E84148B9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6F9-6C88-45E8-8E75-2094D5D1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FB2-08C4-4783-8270-43A42E4A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8C12-B813-4DD5-8532-7DCA95574A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C197-AEB6-4567-B115-2730C2C260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um ne influenteaza televiziunea viata de zi cu zi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15000" y="2895480"/>
            <a:ext cx="2209680" cy="1524240"/>
          </a:xfrm>
          <a:prstGeom prst="cloudCallout">
            <a:avLst>
              <a:gd name="adj1" fmla="val -94972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télévisionS en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despre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urile TV din Fra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67240"/>
                <a:gridCol w="27176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s t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é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é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ions fra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çaises sont très 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nues dans le monde enti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quelle heure est difu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é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e matin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spre utilitatea unui post TV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bog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ţ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rea vocabularului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limba francez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600200"/>
          <a:ext cx="8001000" cy="4903920"/>
        </p:xfrm>
        <a:graphic>
          <a:graphicData uri="http://schemas.openxmlformats.org/drawingml/2006/table">
            <a:tbl>
              <a:tblPr/>
              <a:tblGrid>
                <a:gridCol w="2616120"/>
                <a:gridCol w="2692440"/>
                <a:gridCol w="2692440"/>
              </a:tblGrid>
              <a:tr h="186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Les chaînes de télévision francaises, nous aident à apprendre plus facilement le français.</a:t>
                      </a:r>
                      <a:br>
                        <a:rPr sz="25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?????????????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Ioana</cp:lastModifiedBy>
  <dcterms:modified xsi:type="dcterms:W3CDTF">2009-10-22T15:37:16Z</dcterms:modified>
  <cp:revision>20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